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93EBB-3FC6-452E-92B3-0A5FF3526A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7724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066680" y="4428000"/>
            <a:ext cx="77724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A93FE-4CFB-4099-9B89-A4E30156B43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1066680" y="17100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06668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04936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066680" y="4428000"/>
            <a:ext cx="77724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7724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1066680" y="4428000"/>
            <a:ext cx="77724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06668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504936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694680" y="17712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322320" y="17712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1066680" y="44280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694680" y="44280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322320" y="44280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68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4936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DDD26-453F-489B-ABF5-C056461CAC2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1066680" y="1771200"/>
            <a:ext cx="7772400" cy="50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7724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1066680" y="17100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06668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4936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066680" y="4428000"/>
            <a:ext cx="77724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7724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1066680" y="4428000"/>
            <a:ext cx="77724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106668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504936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94680" y="17712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22320" y="17712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066680" y="44280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94680" y="44280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22320" y="44280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A7CEC-8F34-4B48-A745-0014AEF5DE65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694680" y="17712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322320" y="17712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1066680" y="44280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694680" y="44280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322320" y="44280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066680" y="1771200"/>
            <a:ext cx="7772400" cy="50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7724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1066680" y="17100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06668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504936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066680" y="4428000"/>
            <a:ext cx="77724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7724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1066680" y="4428000"/>
            <a:ext cx="77724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106668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504936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694680" y="17712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322320" y="17712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1066680" y="44280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694680" y="44280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322320" y="44280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066680" y="1771200"/>
            <a:ext cx="7772400" cy="50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7724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066680" y="17100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06668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66680" y="1771200"/>
            <a:ext cx="7772400" cy="50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04936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066680" y="4428000"/>
            <a:ext cx="77724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7724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066680" y="4428000"/>
            <a:ext cx="77724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06668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04936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694680" y="17712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322320" y="17712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066680" y="44280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694680" y="44280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322320" y="44280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1066680" y="1771200"/>
            <a:ext cx="7772400" cy="50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7724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7724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1066680" y="17100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106668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04936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066680" y="4428000"/>
            <a:ext cx="77724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7724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1066680" y="4428000"/>
            <a:ext cx="77724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06668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504936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694680" y="17712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322320" y="17712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1066680" y="44280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694680" y="44280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322320" y="44280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1066680" y="1771200"/>
            <a:ext cx="7772400" cy="50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7724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1066680" y="17100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106668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4936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066680" y="4428000"/>
            <a:ext cx="77724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7724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1066680" y="4428000"/>
            <a:ext cx="77724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106668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504936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694680" y="17712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322320" y="17712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1066680" y="44280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694680" y="44280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322320" y="44280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1066680" y="1771200"/>
            <a:ext cx="7772400" cy="50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7724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1066680" y="17100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106668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04936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1066680" y="4428000"/>
            <a:ext cx="77724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7724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1066680" y="4428000"/>
            <a:ext cx="77724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106668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504936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066680" y="17100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694680" y="17712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322320" y="17712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1066680" y="44280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694680" y="44280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322320" y="44280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1066680" y="1771200"/>
            <a:ext cx="7772400" cy="50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7724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1066680" y="17100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106668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4936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1066680" y="4428000"/>
            <a:ext cx="77724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06668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7724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1066680" y="4428000"/>
            <a:ext cx="77724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106668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4936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694680" y="17712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322320" y="17712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1066680" y="44280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694680" y="44280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322320" y="44280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066680" y="1771200"/>
            <a:ext cx="7772400" cy="50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AAE0C-1392-4955-9C60-2B92698AAE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04936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4428000"/>
            <a:ext cx="77724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7724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066680" y="4428000"/>
            <a:ext cx="77724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6668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04936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94680" y="17712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322320" y="17712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066680" y="44280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694680" y="44280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322320" y="44280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151E4-FB27-4C9B-A88B-F87A470B70F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066680" y="1771200"/>
            <a:ext cx="7772400" cy="50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F8D2E-C76B-42E4-AA29-283B19873FB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7724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99C3F-2C69-482D-908C-31BA0AA618F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E2AA2-18BA-4CF1-8099-A0C1BD71A79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08B24-EE8D-49E1-946E-06895AA67D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7724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A7F62-B58F-4D08-80B0-F50B53E1CA0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066680" y="17100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C522E-E902-42FE-A656-B1C5D3E3120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06668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2897E-B8EA-4D6E-9912-BD6D95FBB4F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4936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2B54D-764F-4B9C-9392-64262C587A5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066680" y="4428000"/>
            <a:ext cx="77724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84952-2165-4864-B7BA-E46502F301E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7724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066680" y="4428000"/>
            <a:ext cx="77724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EBDA5-022D-4458-80A9-020F78359B0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06668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04936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52F82-935F-4AF8-BA52-3B369A17F57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94680" y="17712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322320" y="17712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066680" y="44280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694680" y="44280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322320" y="44280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61CFF-49E7-4995-8A24-C55DFAD3733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066680" y="1771200"/>
            <a:ext cx="7772400" cy="50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7724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9B0B8-EB17-4717-85CF-F726A6B6B9B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1066680" y="17100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06668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4936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066680" y="4428000"/>
            <a:ext cx="77724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7724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1066680" y="4428000"/>
            <a:ext cx="77724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06668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4936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694680" y="17712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322320" y="17712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1066680" y="44280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694680" y="44280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322320" y="44280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79A6A-4A99-4B4A-A8AA-D33C6192DBA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066680" y="1771200"/>
            <a:ext cx="7772400" cy="50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7724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066680" y="17100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06668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04936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066680" y="4428000"/>
            <a:ext cx="77724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7724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066680" y="4428000"/>
            <a:ext cx="77724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06668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04936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066680" y="17100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63402-A6F0-4E86-8472-63C115AE6ED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694680" y="17712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322320" y="17712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066680" y="44280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694680" y="44280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322320" y="44280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066680" y="1771200"/>
            <a:ext cx="7772400" cy="50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7724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1066680" y="17100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06668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04936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066680" y="4428000"/>
            <a:ext cx="77724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06668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E6EC2-C0EC-4566-B671-B825F65B3C3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7724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1066680" y="4428000"/>
            <a:ext cx="77724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06668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504936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694680" y="17712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322320" y="17712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1066680" y="44280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694680" y="44280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322320" y="44280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066680" y="1771200"/>
            <a:ext cx="7772400" cy="50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7724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1066680" y="17100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06668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4936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175B7-2CAF-4EFC-A825-7D10725694E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04936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066680" y="4428000"/>
            <a:ext cx="77724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7724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1066680" y="4428000"/>
            <a:ext cx="77724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06668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4936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694680" y="17712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322320" y="17712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1066680" y="44280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694680" y="44280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322320" y="44280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1066680" y="1771200"/>
            <a:ext cx="7772400" cy="50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7724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428000"/>
            <a:ext cx="77724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22704-689F-4548-91A7-9E589E35CC0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1066680" y="17100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06668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04936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066680" y="4428000"/>
            <a:ext cx="77724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7724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1066680" y="4428000"/>
            <a:ext cx="77724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049360" y="17712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06668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49360" y="4428000"/>
            <a:ext cx="379260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694680" y="17712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322320" y="17712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1066680" y="44280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694680" y="44280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322320" y="4428000"/>
            <a:ext cx="2502360" cy="2426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1066680" y="1771200"/>
            <a:ext cx="7772400" cy="50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7724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771200"/>
            <a:ext cx="77724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740360" y="6322680"/>
            <a:ext cx="2919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60402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3180E-729A-4831-888D-80E7C700C09D}" type="slidenum">
              <a:rPr b="0" lang="en-US" sz="1400" spc="-1" strike="noStrike">
                <a:solidFill>
                  <a:srgbClr val="060402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444240" y="3378240"/>
            <a:ext cx="4127400" cy="2324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title"/>
          </p:nvPr>
        </p:nvSpPr>
        <p:spPr>
          <a:xfrm>
            <a:off x="444240" y="990720"/>
            <a:ext cx="4127400" cy="2324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888480" y="1942920"/>
            <a:ext cx="354348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81000"/>
          </a:bodyPr>
          <a:p>
            <a:pPr marL="487080" indent="-31212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65000" indent="-31248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042560" indent="-31212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330560" indent="-31212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4" marL="1608480" indent="-31248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5" marL="1608480" indent="-31248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6" marL="1608480" indent="-31248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888840" y="1942920"/>
            <a:ext cx="73663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4000"/>
          </a:bodyPr>
          <a:p>
            <a:pPr marL="565200" indent="-36216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887760" indent="-36252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209960" indent="-36216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544400" indent="-36216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4" marL="1866600" indent="-36252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5" marL="1866600" indent="-36252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6" marL="1866600" indent="-36252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5460840" y="1942920"/>
            <a:ext cx="27943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69000"/>
          </a:bodyPr>
          <a:p>
            <a:pPr marL="414720" indent="-26568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51600" indent="-26604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888120" indent="-26568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133640" indent="-26568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4" marL="1370160" indent="-26604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5" marL="1370160" indent="-26604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6" marL="1370160" indent="-26604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888480" y="1942920"/>
            <a:ext cx="354348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81000"/>
          </a:bodyPr>
          <a:p>
            <a:pPr marL="487080" indent="-31212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65000" indent="-31248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042560" indent="-31212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330560" indent="-31212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4" marL="1608480" indent="-31248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5" marL="1608480" indent="-31248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6" marL="1608480" indent="-31248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888840" y="888840"/>
            <a:ext cx="736632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1000"/>
          </a:bodyPr>
          <a:p>
            <a:pPr marL="600480" indent="-403920">
              <a:spcBef>
                <a:spcPts val="33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912960" indent="-404280">
              <a:spcBef>
                <a:spcPts val="33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224720" indent="-403920">
              <a:spcBef>
                <a:spcPts val="33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548360" indent="-403920">
              <a:spcBef>
                <a:spcPts val="33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860480" indent="-404280">
              <a:spcBef>
                <a:spcPts val="33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860480" indent="-404280">
              <a:spcBef>
                <a:spcPts val="33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860480" indent="-404280">
              <a:spcBef>
                <a:spcPts val="33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066680" y="1771200"/>
            <a:ext cx="7772400" cy="5086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2"/>
          </p:nvPr>
        </p:nvSpPr>
        <p:spPr>
          <a:xfrm>
            <a:off x="7778520" y="6337080"/>
            <a:ext cx="2919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B6AEB-F7E9-42BA-98FA-F7FC52D2AA32}" type="slidenum">
              <a:rPr b="0" lang="en-US" sz="1400" spc="-1" strike="noStrike">
                <a:solidFill>
                  <a:srgbClr val="cc9864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88840" y="1942920"/>
            <a:ext cx="73663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4000"/>
          </a:bodyPr>
          <a:p>
            <a:pPr marL="620280" indent="-41724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9428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265040" indent="-41724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599480" indent="-41724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9220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9220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9220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88840" y="2095200"/>
            <a:ext cx="7366320" cy="2679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888840" y="3530160"/>
            <a:ext cx="7366320" cy="800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28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888840" y="1155600"/>
            <a:ext cx="7366320" cy="2324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88840" y="5181480"/>
            <a:ext cx="7366320" cy="1206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88840" y="5181480"/>
            <a:ext cx="7366320" cy="1206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444240" y="3378240"/>
            <a:ext cx="4127400" cy="2324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444240" y="990720"/>
            <a:ext cx="4127400" cy="2324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"/>
          <p:cNvGrpSpPr/>
          <p:nvPr/>
        </p:nvGrpSpPr>
        <p:grpSpPr>
          <a:xfrm>
            <a:off x="0" y="50760"/>
            <a:ext cx="8926560" cy="6743880"/>
            <a:chOff x="0" y="50760"/>
            <a:chExt cx="8926560" cy="6743880"/>
          </a:xfrm>
        </p:grpSpPr>
        <p:grpSp>
          <p:nvGrpSpPr>
            <p:cNvPr id="609" name=""/>
            <p:cNvGrpSpPr/>
            <p:nvPr/>
          </p:nvGrpSpPr>
          <p:grpSpPr>
            <a:xfrm>
              <a:off x="0" y="50760"/>
              <a:ext cx="8926560" cy="6743880"/>
              <a:chOff x="0" y="50760"/>
              <a:chExt cx="8926560" cy="6743880"/>
            </a:xfrm>
          </p:grpSpPr>
          <p:sp>
            <p:nvSpPr>
              <p:cNvPr id="610" name=""/>
              <p:cNvSpPr/>
              <p:nvPr/>
            </p:nvSpPr>
            <p:spPr>
              <a:xfrm>
                <a:off x="528480" y="201600"/>
                <a:ext cx="8398080" cy="6465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1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2" name=""/>
              <p:cNvSpPr/>
              <p:nvPr/>
            </p:nvSpPr>
            <p:spPr>
              <a:xfrm>
                <a:off x="596880" y="4129200"/>
                <a:ext cx="104148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13" name="" descr=""/>
              <p:cNvPicPr/>
              <p:nvPr/>
            </p:nvPicPr>
            <p:blipFill>
              <a:blip r:embed="rId2"/>
              <a:srcRect l="0" t="40000" r="0" b="0"/>
              <a:stretch/>
            </p:blipFill>
            <p:spPr>
              <a:xfrm>
                <a:off x="0" y="4222800"/>
                <a:ext cx="1181160" cy="2571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14" name=""/>
            <p:cNvGrpSpPr/>
            <p:nvPr/>
          </p:nvGrpSpPr>
          <p:grpSpPr>
            <a:xfrm>
              <a:off x="1149480" y="1542960"/>
              <a:ext cx="7742160" cy="4802040"/>
              <a:chOff x="1149480" y="1542960"/>
              <a:chExt cx="7742160" cy="4802040"/>
            </a:xfrm>
          </p:grpSpPr>
          <p:sp>
            <p:nvSpPr>
              <p:cNvPr id="615" name=""/>
              <p:cNvSpPr/>
              <p:nvPr/>
            </p:nvSpPr>
            <p:spPr>
              <a:xfrm>
                <a:off x="1149480" y="15429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149480" y="17715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149480" y="20001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149480" y="22287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1149480" y="24573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1149480" y="26859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149480" y="29145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1149480" y="31431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149480" y="33717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149480" y="36003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1149480" y="38289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1149480" y="40575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1149480" y="42861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149480" y="45147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1149480" y="47433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1149480" y="49719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1149480" y="52005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1149480" y="54291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1149480" y="56577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1149480" y="58863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149480" y="61149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149480" y="63435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ELL RINGER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066680" y="1314000"/>
            <a:ext cx="7772400" cy="50864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TWO THINGS THAT MUST HAPPEN WITH ALL LEFT HAND PAGES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7740360" y="6322680"/>
            <a:ext cx="2919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3034F-C7EA-4954-A2AC-F54055EB6FEC}" type="slidenum">
              <a:rPr b="0" lang="en-US" sz="1400" spc="-1" strike="noStrike">
                <a:solidFill>
                  <a:srgbClr val="060402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C441F-F8B7-498E-9D03-6E36AB2B790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0" name=""/>
          <p:cNvGrpSpPr/>
          <p:nvPr/>
        </p:nvGrpSpPr>
        <p:grpSpPr>
          <a:xfrm>
            <a:off x="0" y="50760"/>
            <a:ext cx="8926560" cy="6743880"/>
            <a:chOff x="0" y="50760"/>
            <a:chExt cx="8926560" cy="6743880"/>
          </a:xfrm>
        </p:grpSpPr>
        <p:grpSp>
          <p:nvGrpSpPr>
            <p:cNvPr id="641" name=""/>
            <p:cNvGrpSpPr/>
            <p:nvPr/>
          </p:nvGrpSpPr>
          <p:grpSpPr>
            <a:xfrm>
              <a:off x="0" y="50760"/>
              <a:ext cx="8926560" cy="6743880"/>
              <a:chOff x="0" y="50760"/>
              <a:chExt cx="8926560" cy="6743880"/>
            </a:xfrm>
          </p:grpSpPr>
          <p:sp>
            <p:nvSpPr>
              <p:cNvPr id="642" name=""/>
              <p:cNvSpPr/>
              <p:nvPr/>
            </p:nvSpPr>
            <p:spPr>
              <a:xfrm>
                <a:off x="528480" y="201600"/>
                <a:ext cx="8398080" cy="6465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4" name=""/>
              <p:cNvSpPr/>
              <p:nvPr/>
            </p:nvSpPr>
            <p:spPr>
              <a:xfrm>
                <a:off x="596880" y="4129200"/>
                <a:ext cx="104148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45" name="" descr=""/>
              <p:cNvPicPr/>
              <p:nvPr/>
            </p:nvPicPr>
            <p:blipFill>
              <a:blip r:embed="rId2"/>
              <a:srcRect l="0" t="40000" r="0" b="0"/>
              <a:stretch/>
            </p:blipFill>
            <p:spPr>
              <a:xfrm>
                <a:off x="0" y="4222800"/>
                <a:ext cx="1181160" cy="2571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46" name=""/>
            <p:cNvGrpSpPr/>
            <p:nvPr/>
          </p:nvGrpSpPr>
          <p:grpSpPr>
            <a:xfrm>
              <a:off x="1149480" y="1542960"/>
              <a:ext cx="7742160" cy="4802040"/>
              <a:chOff x="1149480" y="1542960"/>
              <a:chExt cx="7742160" cy="4802040"/>
            </a:xfrm>
          </p:grpSpPr>
          <p:sp>
            <p:nvSpPr>
              <p:cNvPr id="647" name=""/>
              <p:cNvSpPr/>
              <p:nvPr/>
            </p:nvSpPr>
            <p:spPr>
              <a:xfrm>
                <a:off x="1149480" y="15429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1149480" y="17715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1149480" y="20001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1149480" y="22287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1149480" y="24573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1149480" y="26859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149480" y="29145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149480" y="31431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149480" y="33717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1149480" y="36003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1149480" y="38289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1149480" y="40575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1149480" y="42861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1149480" y="45147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1149480" y="47433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1149480" y="49719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1149480" y="52005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1149480" y="54291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149480" y="56577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1149480" y="58863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1149480" y="61149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1149480" y="63435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9" name=""/>
          <p:cNvSpPr txBox="1"/>
          <p:nvPr/>
        </p:nvSpPr>
        <p:spPr>
          <a:xfrm>
            <a:off x="7740360" y="6322680"/>
            <a:ext cx="2919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7A33A-1038-4D44-8B99-79762A6A15E3}" type="slidenum">
              <a:rPr b="0" lang="en-US" sz="1400" spc="-1" strike="noStrike">
                <a:solidFill>
                  <a:srgbClr val="060402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Lucida Grande"/>
                <a:ea typeface="Lucida Grande"/>
              </a:rPr>
              <a:t>Cornell Notetak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810240" cy="50864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dcc"/>
                </a:solidFill>
                <a:latin typeface="Lucida Grande"/>
                <a:ea typeface="Lucida Grande"/>
              </a:rPr>
              <a:t>Why should 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dcc"/>
                </a:solidFill>
                <a:latin typeface="Lucida Grande"/>
                <a:ea typeface="Lucida Grande"/>
              </a:rPr>
              <a:t>take no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952880" y="1600200"/>
            <a:ext cx="3822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286"/>
              </a:spcBef>
              <a:buClr>
                <a:srgbClr val="221304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To minimize your “rate of forgett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238"/>
              </a:spcBef>
              <a:buClr>
                <a:srgbClr val="221304"/>
              </a:buClr>
              <a:buFont typeface="Helvetica"/>
              <a:buChar char="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1304"/>
                </a:solidFill>
                <a:latin typeface="Lucida Grande"/>
                <a:ea typeface="Lucida Grande"/>
              </a:rPr>
              <a:t>Dr. Walter Pauk, Cornell University Reading 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238"/>
              </a:spcBef>
              <a:buClr>
                <a:srgbClr val="221304"/>
              </a:buClr>
              <a:buFont typeface="Helvetica"/>
              <a:buChar char="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Don’t take notes = Forget 60 % in 14 d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238"/>
              </a:spcBef>
              <a:buClr>
                <a:srgbClr val="221304"/>
              </a:buClr>
              <a:buFont typeface="Helvetica"/>
              <a:buChar char="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Take some notes = Remember 60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238"/>
              </a:spcBef>
              <a:buClr>
                <a:srgbClr val="221304"/>
              </a:buClr>
              <a:buFont typeface="Helvetica"/>
              <a:buChar char="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Take organized notes and do something with them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    </a:t>
            </a:r>
            <a:r>
              <a:rPr b="0" lang="en-US" sz="20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Remember 90-100% indefinitely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952880" y="5486400"/>
            <a:ext cx="3899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ore the Bette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4" name=""/>
          <p:cNvGrpSpPr/>
          <p:nvPr/>
        </p:nvGrpSpPr>
        <p:grpSpPr>
          <a:xfrm>
            <a:off x="0" y="50760"/>
            <a:ext cx="8926560" cy="6743880"/>
            <a:chOff x="0" y="50760"/>
            <a:chExt cx="8926560" cy="6743880"/>
          </a:xfrm>
        </p:grpSpPr>
        <p:grpSp>
          <p:nvGrpSpPr>
            <p:cNvPr id="675" name=""/>
            <p:cNvGrpSpPr/>
            <p:nvPr/>
          </p:nvGrpSpPr>
          <p:grpSpPr>
            <a:xfrm>
              <a:off x="0" y="50760"/>
              <a:ext cx="8926560" cy="6743880"/>
              <a:chOff x="0" y="50760"/>
              <a:chExt cx="8926560" cy="6743880"/>
            </a:xfrm>
          </p:grpSpPr>
          <p:sp>
            <p:nvSpPr>
              <p:cNvPr id="676" name=""/>
              <p:cNvSpPr/>
              <p:nvPr/>
            </p:nvSpPr>
            <p:spPr>
              <a:xfrm>
                <a:off x="528480" y="201600"/>
                <a:ext cx="8398080" cy="6465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7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8" name=""/>
              <p:cNvSpPr/>
              <p:nvPr/>
            </p:nvSpPr>
            <p:spPr>
              <a:xfrm>
                <a:off x="596880" y="4129200"/>
                <a:ext cx="104148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79" name="" descr=""/>
              <p:cNvPicPr/>
              <p:nvPr/>
            </p:nvPicPr>
            <p:blipFill>
              <a:blip r:embed="rId2"/>
              <a:srcRect l="0" t="40000" r="0" b="0"/>
              <a:stretch/>
            </p:blipFill>
            <p:spPr>
              <a:xfrm>
                <a:off x="0" y="4222800"/>
                <a:ext cx="1181160" cy="2571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80" name=""/>
            <p:cNvGrpSpPr/>
            <p:nvPr/>
          </p:nvGrpSpPr>
          <p:grpSpPr>
            <a:xfrm>
              <a:off x="1149480" y="1542960"/>
              <a:ext cx="7742160" cy="4802040"/>
              <a:chOff x="1149480" y="1542960"/>
              <a:chExt cx="7742160" cy="4802040"/>
            </a:xfrm>
          </p:grpSpPr>
          <p:sp>
            <p:nvSpPr>
              <p:cNvPr id="681" name=""/>
              <p:cNvSpPr/>
              <p:nvPr/>
            </p:nvSpPr>
            <p:spPr>
              <a:xfrm>
                <a:off x="1149480" y="15429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149480" y="17715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1149480" y="20001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1149480" y="22287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1149480" y="24573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1149480" y="26859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149480" y="29145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149480" y="31431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149480" y="33717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1149480" y="36003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149480" y="38289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1149480" y="40575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149480" y="42861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1149480" y="45147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1149480" y="47433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1149480" y="49719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1149480" y="52005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1149480" y="54291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1149480" y="56577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1149480" y="58863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1149480" y="61149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1149480" y="63435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3" name=""/>
          <p:cNvSpPr txBox="1"/>
          <p:nvPr/>
        </p:nvSpPr>
        <p:spPr>
          <a:xfrm>
            <a:off x="7740360" y="6322680"/>
            <a:ext cx="2919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541AD-B25F-4986-AFB3-2C7E78822736}" type="slidenum">
              <a:rPr b="0" lang="en-US" sz="1400" spc="-1" strike="noStrike">
                <a:solidFill>
                  <a:srgbClr val="060402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19432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Lucida Grande"/>
                <a:ea typeface="Lucida Grande"/>
              </a:rPr>
              <a:t>Cornell Notetak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81024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r. Pauk created the Cornell Notetaking System, which is used at Stanford, UCLA’s School of Engineering, most Law Schools, and of course, at Cornell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e Cornell System requires the student to review notes and think critically after learning has taken p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257800" y="2438280"/>
            <a:ext cx="350532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172200" y="25146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257800" y="5257800"/>
            <a:ext cx="350532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257800" y="2514600"/>
            <a:ext cx="1440" cy="26668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257800" y="4724280"/>
            <a:ext cx="3581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8763120" y="2514600"/>
            <a:ext cx="1440" cy="22096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924680" y="2438280"/>
            <a:ext cx="1800" cy="22860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257800" y="2479680"/>
            <a:ext cx="9270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924680" y="2590920"/>
            <a:ext cx="85104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?’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181480" y="4800600"/>
            <a:ext cx="35942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6" name=""/>
          <p:cNvGraphicFramePr/>
          <p:nvPr/>
        </p:nvGraphicFramePr>
        <p:xfrm>
          <a:off x="139680" y="19080"/>
          <a:ext cx="8889840" cy="6806880"/>
        </p:xfrm>
        <a:graphic>
          <a:graphicData uri="http://schemas.openxmlformats.org/drawingml/2006/table">
            <a:tbl>
              <a:tblPr/>
              <a:tblGrid>
                <a:gridCol w="2963880"/>
                <a:gridCol w="5925960"/>
              </a:tblGrid>
              <a:tr h="1567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pic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estions/Main Idea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m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io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_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e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080">
                <a:tc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080">
                <a:tc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080">
                <a:tc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080">
                <a:tc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080">
                <a:tc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440">
                <a:tc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080">
                <a:tc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440">
                <a:tc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080">
                <a:tc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080">
                <a:tc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080">
                <a:tc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440">
                <a:tc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080">
                <a:tc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080">
                <a:tc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440">
                <a:tc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080">
                <a:tc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080">
                <a:tc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440">
                <a:tc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080">
                <a:tc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080">
                <a:tc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320"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mmary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7080">
                <a:tc gridSpan="2"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7080">
                <a:tc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920">
                <a:tc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7" name=""/>
          <p:cNvGrpSpPr/>
          <p:nvPr/>
        </p:nvGrpSpPr>
        <p:grpSpPr>
          <a:xfrm>
            <a:off x="0" y="50760"/>
            <a:ext cx="8926560" cy="6743880"/>
            <a:chOff x="0" y="50760"/>
            <a:chExt cx="8926560" cy="6743880"/>
          </a:xfrm>
        </p:grpSpPr>
        <p:grpSp>
          <p:nvGrpSpPr>
            <p:cNvPr id="718" name=""/>
            <p:cNvGrpSpPr/>
            <p:nvPr/>
          </p:nvGrpSpPr>
          <p:grpSpPr>
            <a:xfrm>
              <a:off x="0" y="50760"/>
              <a:ext cx="8926560" cy="6743880"/>
              <a:chOff x="0" y="50760"/>
              <a:chExt cx="8926560" cy="6743880"/>
            </a:xfrm>
          </p:grpSpPr>
          <p:sp>
            <p:nvSpPr>
              <p:cNvPr id="719" name=""/>
              <p:cNvSpPr/>
              <p:nvPr/>
            </p:nvSpPr>
            <p:spPr>
              <a:xfrm>
                <a:off x="528480" y="201600"/>
                <a:ext cx="8398080" cy="6465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72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1" name=""/>
              <p:cNvSpPr/>
              <p:nvPr/>
            </p:nvSpPr>
            <p:spPr>
              <a:xfrm>
                <a:off x="596880" y="4129200"/>
                <a:ext cx="104148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722" name="" descr=""/>
              <p:cNvPicPr/>
              <p:nvPr/>
            </p:nvPicPr>
            <p:blipFill>
              <a:blip r:embed="rId2"/>
              <a:srcRect l="0" t="40000" r="0" b="0"/>
              <a:stretch/>
            </p:blipFill>
            <p:spPr>
              <a:xfrm>
                <a:off x="0" y="4222800"/>
                <a:ext cx="1181160" cy="2571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23" name=""/>
            <p:cNvGrpSpPr/>
            <p:nvPr/>
          </p:nvGrpSpPr>
          <p:grpSpPr>
            <a:xfrm>
              <a:off x="1149480" y="1542960"/>
              <a:ext cx="7742160" cy="4802040"/>
              <a:chOff x="1149480" y="1542960"/>
              <a:chExt cx="7742160" cy="4802040"/>
            </a:xfrm>
          </p:grpSpPr>
          <p:sp>
            <p:nvSpPr>
              <p:cNvPr id="724" name=""/>
              <p:cNvSpPr/>
              <p:nvPr/>
            </p:nvSpPr>
            <p:spPr>
              <a:xfrm>
                <a:off x="1149480" y="15429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1149480" y="17715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1149480" y="20001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1149480" y="22287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1149480" y="24573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1149480" y="26859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1149480" y="29145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1149480" y="31431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1149480" y="33717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1149480" y="36003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1149480" y="38289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1149480" y="40575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1149480" y="42861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1149480" y="45147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1149480" y="47433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1149480" y="49719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1149480" y="52005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1149480" y="54291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149480" y="56577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1149480" y="58863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1149480" y="61149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1149480" y="63435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6" name=""/>
          <p:cNvSpPr txBox="1"/>
          <p:nvPr/>
        </p:nvSpPr>
        <p:spPr>
          <a:xfrm>
            <a:off x="7740360" y="6322680"/>
            <a:ext cx="2919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5CB80-D868-42B3-B267-C6C8C2FE0E41}" type="slidenum">
              <a:rPr b="0" lang="en-US" sz="1400" spc="-1" strike="noStrike">
                <a:solidFill>
                  <a:srgbClr val="060402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Lucida Grande"/>
                <a:ea typeface="Lucida Grande"/>
              </a:rPr>
              <a:t>Cornell Notetak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3810240" cy="50864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What do you notice that is different about Cornell No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029200" y="1771560"/>
            <a:ext cx="3822840" cy="41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286"/>
              </a:spcBef>
              <a:buClr>
                <a:srgbClr val="221304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ey are divided into two parts: questions and 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286"/>
              </a:spcBef>
              <a:buClr>
                <a:srgbClr val="0e0802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ere is a reflection at the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286"/>
              </a:spcBef>
              <a:buClr>
                <a:srgbClr val="0e0802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0802"/>
                </a:solidFill>
                <a:latin typeface="Lucida Grande"/>
                <a:ea typeface="Lucida Grande"/>
              </a:rPr>
              <a:t>There is room for a to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286"/>
              </a:spcBef>
              <a:buClr>
                <a:srgbClr val="221304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Lucida Grande"/>
                <a:ea typeface="Lucida Grande"/>
              </a:rPr>
              <a:t>They are labeled with name, date, class, period or other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"/>
          <p:cNvGrpSpPr/>
          <p:nvPr/>
        </p:nvGrpSpPr>
        <p:grpSpPr>
          <a:xfrm>
            <a:off x="0" y="50760"/>
            <a:ext cx="8926560" cy="6743880"/>
            <a:chOff x="0" y="50760"/>
            <a:chExt cx="8926560" cy="6743880"/>
          </a:xfrm>
        </p:grpSpPr>
        <p:grpSp>
          <p:nvGrpSpPr>
            <p:cNvPr id="751" name=""/>
            <p:cNvGrpSpPr/>
            <p:nvPr/>
          </p:nvGrpSpPr>
          <p:grpSpPr>
            <a:xfrm>
              <a:off x="0" y="50760"/>
              <a:ext cx="8926560" cy="6743880"/>
              <a:chOff x="0" y="50760"/>
              <a:chExt cx="8926560" cy="6743880"/>
            </a:xfrm>
          </p:grpSpPr>
          <p:sp>
            <p:nvSpPr>
              <p:cNvPr id="752" name=""/>
              <p:cNvSpPr/>
              <p:nvPr/>
            </p:nvSpPr>
            <p:spPr>
              <a:xfrm>
                <a:off x="528480" y="201600"/>
                <a:ext cx="8398080" cy="6465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75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4" name=""/>
              <p:cNvSpPr/>
              <p:nvPr/>
            </p:nvSpPr>
            <p:spPr>
              <a:xfrm>
                <a:off x="596880" y="4129200"/>
                <a:ext cx="104148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755" name="" descr=""/>
              <p:cNvPicPr/>
              <p:nvPr/>
            </p:nvPicPr>
            <p:blipFill>
              <a:blip r:embed="rId2"/>
              <a:srcRect l="0" t="40000" r="0" b="0"/>
              <a:stretch/>
            </p:blipFill>
            <p:spPr>
              <a:xfrm>
                <a:off x="0" y="4222800"/>
                <a:ext cx="1181160" cy="2571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56" name=""/>
            <p:cNvGrpSpPr/>
            <p:nvPr/>
          </p:nvGrpSpPr>
          <p:grpSpPr>
            <a:xfrm>
              <a:off x="1149480" y="1542960"/>
              <a:ext cx="7742160" cy="4802040"/>
              <a:chOff x="1149480" y="1542960"/>
              <a:chExt cx="7742160" cy="4802040"/>
            </a:xfrm>
          </p:grpSpPr>
          <p:sp>
            <p:nvSpPr>
              <p:cNvPr id="757" name=""/>
              <p:cNvSpPr/>
              <p:nvPr/>
            </p:nvSpPr>
            <p:spPr>
              <a:xfrm>
                <a:off x="1149480" y="15429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1149480" y="17715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1149480" y="20001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149480" y="22287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1149480" y="24573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149480" y="26859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149480" y="29145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1149480" y="31431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1149480" y="33717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1149480" y="36003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149480" y="38289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149480" y="40575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1149480" y="42861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1149480" y="45147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1149480" y="47433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149480" y="49719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1149480" y="52005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1149480" y="54291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1149480" y="56577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1149480" y="58863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149480" y="61149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1149480" y="63435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79" name=""/>
          <p:cNvSpPr txBox="1"/>
          <p:nvPr/>
        </p:nvSpPr>
        <p:spPr>
          <a:xfrm>
            <a:off x="7740360" y="6322680"/>
            <a:ext cx="2919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B84BB-A7F5-4992-A5F9-7374C909E36D}" type="slidenum">
              <a:rPr b="0" lang="en-US" sz="1400" spc="-1" strike="noStrike">
                <a:solidFill>
                  <a:srgbClr val="060402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Lucida Grande"/>
                <a:ea typeface="Lucida Grande"/>
              </a:rPr>
              <a:t>Cornell Notetak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1079280" y="1720440"/>
            <a:ext cx="3429000" cy="50864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dcc"/>
                </a:solidFill>
                <a:latin typeface="Lucida Grande"/>
                <a:ea typeface="Lucida Grande"/>
              </a:rPr>
              <a:t>What types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dcc"/>
                </a:solidFill>
                <a:latin typeface="Lucida Grande"/>
                <a:ea typeface="Lucida Grande"/>
              </a:rPr>
              <a:t>questions shoul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dcc"/>
                </a:solidFill>
                <a:latin typeface="Lucida Grande"/>
                <a:ea typeface="Lucida Grande"/>
              </a:rPr>
              <a:t>I place on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dcc"/>
                </a:solidFill>
                <a:latin typeface="Lucida Grande"/>
                <a:ea typeface="Lucida Grande"/>
              </a:rPr>
              <a:t>left si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572000" y="1771560"/>
            <a:ext cx="428004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Questions which are </a:t>
            </a:r>
            <a:r>
              <a:rPr b="0" lang="en-US" sz="24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answered in the notes on the r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Questions </a:t>
            </a:r>
            <a:r>
              <a:rPr b="0" lang="en-US" sz="24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you still need the answer to--ask a friend or the teacher 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ft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Questions </a:t>
            </a:r>
            <a:r>
              <a:rPr b="0" lang="en-US" sz="24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the teacher might ask on a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Higher level thinking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3" name=""/>
          <p:cNvGrpSpPr/>
          <p:nvPr/>
        </p:nvGrpSpPr>
        <p:grpSpPr>
          <a:xfrm>
            <a:off x="0" y="50760"/>
            <a:ext cx="8926560" cy="6743880"/>
            <a:chOff x="0" y="50760"/>
            <a:chExt cx="8926560" cy="6743880"/>
          </a:xfrm>
        </p:grpSpPr>
        <p:grpSp>
          <p:nvGrpSpPr>
            <p:cNvPr id="784" name=""/>
            <p:cNvGrpSpPr/>
            <p:nvPr/>
          </p:nvGrpSpPr>
          <p:grpSpPr>
            <a:xfrm>
              <a:off x="0" y="50760"/>
              <a:ext cx="8926560" cy="6743880"/>
              <a:chOff x="0" y="50760"/>
              <a:chExt cx="8926560" cy="6743880"/>
            </a:xfrm>
          </p:grpSpPr>
          <p:sp>
            <p:nvSpPr>
              <p:cNvPr id="785" name=""/>
              <p:cNvSpPr/>
              <p:nvPr/>
            </p:nvSpPr>
            <p:spPr>
              <a:xfrm>
                <a:off x="528480" y="201600"/>
                <a:ext cx="8398080" cy="6465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78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7" name=""/>
              <p:cNvSpPr/>
              <p:nvPr/>
            </p:nvSpPr>
            <p:spPr>
              <a:xfrm>
                <a:off x="596880" y="4129200"/>
                <a:ext cx="104148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788" name="" descr=""/>
              <p:cNvPicPr/>
              <p:nvPr/>
            </p:nvPicPr>
            <p:blipFill>
              <a:blip r:embed="rId2"/>
              <a:srcRect l="0" t="40000" r="0" b="0"/>
              <a:stretch/>
            </p:blipFill>
            <p:spPr>
              <a:xfrm>
                <a:off x="0" y="4222800"/>
                <a:ext cx="1181160" cy="2571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89" name=""/>
            <p:cNvGrpSpPr/>
            <p:nvPr/>
          </p:nvGrpSpPr>
          <p:grpSpPr>
            <a:xfrm>
              <a:off x="1149480" y="1542960"/>
              <a:ext cx="7742160" cy="4802040"/>
              <a:chOff x="1149480" y="1542960"/>
              <a:chExt cx="7742160" cy="4802040"/>
            </a:xfrm>
          </p:grpSpPr>
          <p:sp>
            <p:nvSpPr>
              <p:cNvPr id="790" name=""/>
              <p:cNvSpPr/>
              <p:nvPr/>
            </p:nvSpPr>
            <p:spPr>
              <a:xfrm>
                <a:off x="1149480" y="15429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1149480" y="17715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1149480" y="20001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149480" y="22287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1149480" y="24573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1149480" y="26859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1149480" y="29145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1149480" y="31431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149480" y="33717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149480" y="36003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1149480" y="38289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1149480" y="40575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1149480" y="42861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149480" y="45147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1149480" y="47433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1149480" y="49719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1149480" y="52005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1149480" y="54291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149480" y="56577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1149480" y="58863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1149480" y="61149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1149480" y="63435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12" name=""/>
          <p:cNvSpPr txBox="1"/>
          <p:nvPr/>
        </p:nvSpPr>
        <p:spPr>
          <a:xfrm>
            <a:off x="7740360" y="6322680"/>
            <a:ext cx="2919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D0CA6-1EF3-40DE-A369-8C6EF1C46C00}" type="slidenum">
              <a:rPr b="0" lang="en-US" sz="1400" spc="-1" strike="noStrike">
                <a:solidFill>
                  <a:srgbClr val="060402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Lucida Grande"/>
                <a:ea typeface="Lucida Grande"/>
              </a:rPr>
              <a:t>Cornell Notetak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429000" cy="50864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dcc"/>
                </a:solidFill>
                <a:latin typeface="Lucida Grande"/>
                <a:ea typeface="Lucida Grande"/>
              </a:rPr>
              <a:t>What else coul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dcc"/>
                </a:solidFill>
                <a:latin typeface="Lucida Grande"/>
                <a:ea typeface="Lucida Grande"/>
              </a:rPr>
              <a:t>I place on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dcc"/>
                </a:solidFill>
                <a:latin typeface="Lucida Grande"/>
                <a:ea typeface="Lucida Grande"/>
              </a:rPr>
              <a:t>left si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4572000" y="1771560"/>
            <a:ext cx="4280040" cy="32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Key terms, vocabulary words, or d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Diagrams or fig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Reference pages in a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teps in a solution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Notes to myself about actions I need to t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"/>
          <p:cNvGrpSpPr/>
          <p:nvPr/>
        </p:nvGrpSpPr>
        <p:grpSpPr>
          <a:xfrm>
            <a:off x="0" y="50760"/>
            <a:ext cx="8926560" cy="6743880"/>
            <a:chOff x="0" y="50760"/>
            <a:chExt cx="8926560" cy="6743880"/>
          </a:xfrm>
        </p:grpSpPr>
        <p:grpSp>
          <p:nvGrpSpPr>
            <p:cNvPr id="817" name=""/>
            <p:cNvGrpSpPr/>
            <p:nvPr/>
          </p:nvGrpSpPr>
          <p:grpSpPr>
            <a:xfrm>
              <a:off x="0" y="50760"/>
              <a:ext cx="8926560" cy="6743880"/>
              <a:chOff x="0" y="50760"/>
              <a:chExt cx="8926560" cy="6743880"/>
            </a:xfrm>
          </p:grpSpPr>
          <p:sp>
            <p:nvSpPr>
              <p:cNvPr id="818" name=""/>
              <p:cNvSpPr/>
              <p:nvPr/>
            </p:nvSpPr>
            <p:spPr>
              <a:xfrm>
                <a:off x="528480" y="201600"/>
                <a:ext cx="8398080" cy="6465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1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0" name=""/>
              <p:cNvSpPr/>
              <p:nvPr/>
            </p:nvSpPr>
            <p:spPr>
              <a:xfrm>
                <a:off x="596880" y="4129200"/>
                <a:ext cx="104148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21" name="" descr=""/>
              <p:cNvPicPr/>
              <p:nvPr/>
            </p:nvPicPr>
            <p:blipFill>
              <a:blip r:embed="rId2"/>
              <a:srcRect l="0" t="40000" r="0" b="0"/>
              <a:stretch/>
            </p:blipFill>
            <p:spPr>
              <a:xfrm>
                <a:off x="0" y="4222800"/>
                <a:ext cx="1181160" cy="2571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22" name=""/>
            <p:cNvGrpSpPr/>
            <p:nvPr/>
          </p:nvGrpSpPr>
          <p:grpSpPr>
            <a:xfrm>
              <a:off x="1149480" y="1542960"/>
              <a:ext cx="7742160" cy="4802040"/>
              <a:chOff x="1149480" y="1542960"/>
              <a:chExt cx="7742160" cy="4802040"/>
            </a:xfrm>
          </p:grpSpPr>
          <p:sp>
            <p:nvSpPr>
              <p:cNvPr id="823" name=""/>
              <p:cNvSpPr/>
              <p:nvPr/>
            </p:nvSpPr>
            <p:spPr>
              <a:xfrm>
                <a:off x="1149480" y="15429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149480" y="17715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1149480" y="20001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1149480" y="22287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1149480" y="24573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1149480" y="26859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149480" y="29145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1149480" y="31431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1149480" y="33717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1149480" y="36003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1149480" y="38289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149480" y="40575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1149480" y="42861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1149480" y="45147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1149480" y="47433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1149480" y="49719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149480" y="52005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1149480" y="54291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1149480" y="56577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149480" y="58863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149480" y="61149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149480" y="6343560"/>
                <a:ext cx="7742160" cy="144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5" name=""/>
          <p:cNvSpPr txBox="1"/>
          <p:nvPr/>
        </p:nvSpPr>
        <p:spPr>
          <a:xfrm>
            <a:off x="7740360" y="6322680"/>
            <a:ext cx="2919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F5D84-4AA7-4113-9525-9CCF28DD3021}" type="slidenum">
              <a:rPr b="0" lang="en-US" sz="1400" spc="-1" strike="noStrike">
                <a:solidFill>
                  <a:srgbClr val="060402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066680" y="171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Lucida Grande"/>
                <a:ea typeface="Lucida Grande"/>
              </a:rPr>
              <a:t>Cornell Notetak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429000" cy="50864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What are s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good tips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aking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otes on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righ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572000" y="1771560"/>
            <a:ext cx="4280040" cy="39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Write in your own words (paraphr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Write using abbreviations (check a dictionary for these and create your ow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raw a figure or dia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Leave space where you think you might need to “fill in” info l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Use bullets, arrows, and indenting to list key id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Write legi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ffice of Superintendent</dc:creator>
  <dc:description/>
  <dc:language>en-US</dc:language>
  <cp:lastModifiedBy/>
  <cp:revision>0</cp:revision>
  <dc:subject/>
  <dc:title>Cornell Notes Powerpoint</dc:title>
</cp:coreProperties>
</file>